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2ABD-E16D-49DB-8C7B-8B350168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EEE5-939C-4010-8559-C57F9EEE0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19E-F189-4454-A477-3156106C0D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0E8-CEB4-48E8-AEA7-2E2D40F2D5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9027-40E0-483F-B1DF-FE96E38C26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5B1-55E0-47B1-B205-D0282D5741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CF52-739A-4A09-9037-738513164B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3313-3A90-4ECB-9351-3E94807465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4439-A9A3-459D-A223-0B66368118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94C3-E2F4-49A6-89DF-78CA90A3B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F786-922E-40F7-8B2B-B673D183F3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B2B-3A0D-40B3-8FB1-58F3A4AFDE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D81AF-3855-4ECE-9BEF-054E312526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50D7-6EEA-417A-BA34-E773781A7A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347E-36A4-414F-AC67-C9AAED2248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9CC0-2764-494B-9ABE-ACB9174676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914F-C6F4-4D0E-9512-07143BFA4A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0769-19DC-4F00-9B57-04CE32BABF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26A5-6AA7-48D1-AB81-52B3545F1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73D6-5B58-4282-9398-B0F6A5AEE5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469-7A0C-40AD-A9B4-2F7FAEBB62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CE9F-B95D-47C5-9A6D-302BE529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6B1C-DC78-492B-9E69-5168C3BA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42B-EAC3-491A-8A49-49FEE63B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FDB-0C71-4B4F-B71F-C8BD7478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FE24-F72D-4F3C-A6A6-1D2ADA31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92A0-36AD-4263-8E31-E33310E8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BF8B-1E28-4381-AC02-59723DB9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B37-04D5-408B-A2B9-546BC740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7E9E-DA83-4758-82FD-9BD9B42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3380-3AF3-49E9-955F-F83CED7D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3DEA-444C-411C-AA34-000296E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C7B-651F-438A-9B00-5E0C5DC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C2D5-A84C-4EEC-8B4E-0F2A08F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3722-EE2F-4E0F-A503-E34029E3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1753-AA1D-4C0B-BB57-F0ABD64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5810-600C-4D17-8279-11298A28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98D-3D38-41FF-A092-7142DD81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21B-7784-494D-BF43-D53B7C88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52C7-1D0E-4C2A-8F0C-8D5225F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F86-C469-4209-8CA9-41713F3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EBFE-2FE9-49F6-9609-941745F4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F02-2817-4B53-A7A6-3B345864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BA5-5D92-4577-9DA6-AC25201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DE4-E568-4E2D-B8B9-37D2CA5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B9A7-B646-45BB-9BDC-90DB213E7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7537-C6C8-439E-BC8A-89D6D3245B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1916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GISLATIVE/ EXECUTIVE BRANCH REVIEW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day you may use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How many electoral votes does Tennesse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1600200" y="3048120"/>
            <a:ext cx="55069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Congress is made up of how many membe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5410080" y="3990960"/>
            <a:ext cx="1305000" cy="976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4"/>
          <a:stretch/>
        </p:blipFill>
        <p:spPr>
          <a:xfrm>
            <a:off x="1690560" y="2641680"/>
            <a:ext cx="5762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1. Oak Ridge is located in which Tennessee Congressional distric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206280" y="392256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3487680" y="3132000"/>
            <a:ext cx="2166840" cy="3256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6172200" y="383688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240" y="0"/>
            <a:ext cx="9144000" cy="618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2. Which of the following states has the most members of the House of Representative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A. Alabama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. California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C. New York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. Tex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3. Who is the current President Pro Tempor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3"/>
          <a:stretch/>
        </p:blipFill>
        <p:spPr>
          <a:xfrm>
            <a:off x="685800" y="2971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4"/>
          <a:stretch/>
        </p:blipFill>
        <p:spPr>
          <a:xfrm>
            <a:off x="5105520" y="3309840"/>
            <a:ext cx="212400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4. Who is the current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533520" y="3276720"/>
            <a:ext cx="3287520" cy="2716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4"/>
          <a:stretch/>
        </p:blipFill>
        <p:spPr>
          <a:xfrm>
            <a:off x="4800600" y="3529080"/>
            <a:ext cx="336384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5. Who is the current Attorney General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2776680" y="2743200"/>
            <a:ext cx="35906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6. Who is the current Vice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2676600" cy="3341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4"/>
          <a:stretch/>
        </p:blipFill>
        <p:spPr>
          <a:xfrm>
            <a:off x="4876920" y="3171960"/>
            <a:ext cx="244620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7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8. Who is the current Secretary of Homeland Securit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1371600" y="2743200"/>
            <a:ext cx="2625840" cy="3741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4"/>
          <a:stretch/>
        </p:blipFill>
        <p:spPr>
          <a:xfrm>
            <a:off x="4952880" y="3392640"/>
            <a:ext cx="2600280" cy="17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establishes the Legisla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4343400" cy="2440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5943600" y="2895480"/>
            <a:ext cx="1879560" cy="190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"/>
          <p:cNvPicPr/>
          <p:nvPr/>
        </p:nvPicPr>
        <p:blipFill>
          <a:blip r:embed="rId4"/>
          <a:stretch/>
        </p:blipFill>
        <p:spPr>
          <a:xfrm>
            <a:off x="5369040" y="5192640"/>
            <a:ext cx="3028680" cy="15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9. Who is the current Secretary of Defen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3"/>
          <a:stretch/>
        </p:blipFill>
        <p:spPr>
          <a:xfrm>
            <a:off x="1592280" y="2895480"/>
            <a:ext cx="595944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0. Who is the current Secretary of the Treasur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3"/>
          <a:stretch/>
        </p:blipFill>
        <p:spPr>
          <a:xfrm>
            <a:off x="990720" y="2514600"/>
            <a:ext cx="2600280" cy="2600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4"/>
          <a:stretch/>
        </p:blipFill>
        <p:spPr>
          <a:xfrm>
            <a:off x="4952880" y="39625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ich article of the Constitution establishes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609480" y="352584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124440" cy="43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How long is a term for a member of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74448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5181480" y="33526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he Constitution provides for what type of legislatur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tretch/>
        </p:blipFill>
        <p:spPr>
          <a:xfrm>
            <a:off x="2486160" y="2895480"/>
            <a:ext cx="4171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a Senato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685800" y="2612880"/>
            <a:ext cx="2895480" cy="38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4711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a Representativ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3297240" y="2514600"/>
            <a:ext cx="2549520" cy="38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558360"/>
            <a:ext cx="89154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ame the requirement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2460600" y="2438280"/>
            <a:ext cx="422280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0680"/>
            <a:ext cx="89154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The Speaker of the House is chosen by and is the leader of the ______ part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703600" y="2666880"/>
            <a:ext cx="3736800" cy="40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3-01T18:01:11Z</dcterms:modified>
  <cp:revision>156</cp:revision>
  <dc:subject/>
  <dc:title>D/O: TO EXPLAIN AND IDENTIFY PROBLEMS OF ECONOMICS</dc:title>
</cp:coreProperties>
</file>